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3AF-4084-4BE7-9F7A-378CB01A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39326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A4F-5800-469C-AD41-6366402A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256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E73-9549-4B00-9EDB-95FE6243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50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78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50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78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F06-A72F-4FB7-B075-89726D660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D69E-C6E5-4659-B990-B04B4DEC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70DE-8A66-4E43-AF54-30ED4B25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4F8C-6BC7-4C49-BB6F-9F393F8E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5EE3-B09F-4B11-87CB-7AE02CD4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75D0-0198-4CE4-8E0B-6241F448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90B1-7C48-482B-A240-9DC8C17F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C279-EBBD-473E-BACE-BABD9531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1ED-C13F-432C-AC2C-044BFA48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F4B3-D68D-4B1A-90DE-60C42BE1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923C-CB4A-41EA-B5AD-A583ED91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9326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6840-9670-4B4D-9999-E1025C2A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FC1A-4623-4C3A-BB72-4652866C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106668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3932640"/>
            <a:ext cx="2821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F3F2-FF59-4B27-915F-5B1F9C5C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4BD-8639-4B01-BBFC-A9D10318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4E7-E6A5-4A78-929A-0A27E727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C15-5402-49B9-AE20-035692E4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152280"/>
            <a:ext cx="8839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9F6-7F62-4435-8F0F-235AE0E7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4438-D64B-4909-A3F7-AB023465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2560" y="393264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BC9-31FB-41CD-84AB-1A230459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2560" y="1066680"/>
            <a:ext cx="4276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3932640"/>
            <a:ext cx="876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81B-55CC-444C-9725-8855F1B0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1" marL="343080" indent="-343080">
              <a:spcBef>
                <a:spcPts val="601"/>
              </a:spcBef>
              <a:buClr>
                <a:srgbClr val="333333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2" marL="343080" indent="-343080">
              <a:spcBef>
                <a:spcPts val="601"/>
              </a:spcBef>
              <a:buClr>
                <a:srgbClr val="333333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3" marL="343080" indent="-343080">
              <a:spcBef>
                <a:spcPts val="601"/>
              </a:spcBef>
              <a:buClr>
                <a:srgbClr val="333333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4" marL="343080" indent="-343080">
              <a:spcBef>
                <a:spcPts val="601"/>
              </a:spcBef>
              <a:buClr>
                <a:srgbClr val="333333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Black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9880" y="6689520"/>
            <a:ext cx="17780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33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06480" y="6689520"/>
            <a:ext cx="241308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33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33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60680" y="6689520"/>
            <a:ext cx="17780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3333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1ACD-BB4B-44FE-80B9-B5C5055FA0A6}" type="slidenum">
              <a:rPr b="0" lang="en-US" sz="900" spc="-1" strike="noStrike">
                <a:solidFill>
                  <a:srgbClr val="333333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720" y="668952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D0FF-5F0E-42B2-9320-945CB3EC31A2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lvl="2" marL="914400" algn="ctr">
              <a:spcBef>
                <a:spcPts val="451"/>
              </a:spcBef>
              <a:buClr>
                <a:srgbClr val="333333"/>
              </a:buClr>
              <a:buSzPct val="300000"/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 Black"/>
            </a:endParaRPr>
          </a:p>
          <a:p>
            <a:pPr lvl="3" marL="1371600" algn="ctr">
              <a:spcBef>
                <a:spcPts val="400"/>
              </a:spcBef>
              <a:buClr>
                <a:srgbClr val="333333"/>
              </a:buClr>
              <a:buSzPct val="300000"/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 Black"/>
            </a:endParaRPr>
          </a:p>
          <a:p>
            <a:pPr lvl="4" marL="1828800" algn="ctr">
              <a:spcBef>
                <a:spcPts val="400"/>
              </a:spcBef>
              <a:buClr>
                <a:srgbClr val="333333"/>
              </a:buClr>
              <a:buSzPct val="300000"/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Black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 Black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Black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 Black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 Black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mailto:schapman@greet.bham.sch.uk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" Target="slide16.xml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bc.co.uk/northernireland/schools/4_11/uptoyou/" TargetMode="External"/><Relationship Id="rId3" Type="http://schemas.openxmlformats.org/officeDocument/2006/relationships/hyperlink" Target="http://www.lifebytes.gov.uk/teachers/lb_teachers-eat.htm" TargetMode="External"/><Relationship Id="rId4" Type="http://schemas.openxmlformats.org/officeDocument/2006/relationships/hyperlink" Target="http://www.eatwell.gov.uk/foodlabels/" TargetMode="External"/><Relationship Id="rId5" Type="http://schemas.openxmlformats.org/officeDocument/2006/relationships/hyperlink" Target="http://www.eatwell.gov.uk/foodlabels/" TargetMode="External"/><Relationship Id="rId6" Type="http://schemas.openxmlformats.org/officeDocument/2006/relationships/hyperlink" Target="http://www.eatwell.gov.uk/foodlabels/" TargetMode="External"/><Relationship Id="rId7" Type="http://schemas.openxmlformats.org/officeDocument/2006/relationships/image" Target="../media/image3.png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5.gif"/><Relationship Id="rId4" Type="http://schemas.openxmlformats.org/officeDocument/2006/relationships/slide" Target="slide10.xml"/><Relationship Id="rId5" Type="http://schemas.openxmlformats.org/officeDocument/2006/relationships/image" Target="../media/image6.gif"/><Relationship Id="rId6" Type="http://schemas.openxmlformats.org/officeDocument/2006/relationships/slide" Target="slide12.xml"/><Relationship Id="rId7" Type="http://schemas.openxmlformats.org/officeDocument/2006/relationships/image" Target="../media/image7.gif"/><Relationship Id="rId8" Type="http://schemas.openxmlformats.org/officeDocument/2006/relationships/slide" Target="slide13.xml"/><Relationship Id="rId9" Type="http://schemas.openxmlformats.org/officeDocument/2006/relationships/image" Target="../media/image8.gif"/><Relationship Id="rId10" Type="http://schemas.openxmlformats.org/officeDocument/2006/relationships/image" Target="../media/image9.png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33920" y="1676160"/>
            <a:ext cx="4495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vers part of Scien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Unit 5a: </a:t>
            </a:r>
            <a:br>
              <a:rPr sz="2400"/>
            </a:b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Keeping Healthy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80920" y="990720"/>
            <a:ext cx="4953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ealth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Eating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4241880" cy="5059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038480" y="4724280"/>
            <a:ext cx="4800600" cy="14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y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Mrs. Chapm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20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eet School, Birming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rains and Puls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Main F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371600"/>
            <a:ext cx="4876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is food group includes wheat, corn, barley, rice, lentils, bean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se are all from plants and form a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staple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part of the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diet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for people all over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ains and pulses give us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uts are another source of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34120" y="1676520"/>
            <a:ext cx="3047760" cy="2971440"/>
            <a:chOff x="5334120" y="1676520"/>
            <a:chExt cx="3047760" cy="2971440"/>
          </a:xfrm>
        </p:grpSpPr>
        <p:sp>
          <p:nvSpPr>
            <p:cNvPr id="148" name=""/>
            <p:cNvSpPr/>
            <p:nvPr/>
          </p:nvSpPr>
          <p:spPr>
            <a:xfrm>
              <a:off x="5334120" y="1676520"/>
              <a:ext cx="2971440" cy="29714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34120" y="2126520"/>
              <a:ext cx="304776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What is..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assoon Primary"/>
                </a:rPr>
                <a:t>Rice is the staple food in China and much of the East.  What is it in the West (UK, USA)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rains and Puls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k to Main F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371600"/>
            <a:ext cx="48769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is food group includes wheat, corn, barley, rice, lentils, bean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se are all from plants and form a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staple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part of the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diet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for people all over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rains and pulses give us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carbohydrate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Nuts are another source of pro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4120" y="1676520"/>
            <a:ext cx="3047760" cy="2971440"/>
            <a:chOff x="5334120" y="1676520"/>
            <a:chExt cx="3047760" cy="2971440"/>
          </a:xfrm>
        </p:grpSpPr>
        <p:sp>
          <p:nvSpPr>
            <p:cNvPr id="155" name=""/>
            <p:cNvSpPr/>
            <p:nvPr/>
          </p:nvSpPr>
          <p:spPr>
            <a:xfrm>
              <a:off x="5334120" y="1676520"/>
              <a:ext cx="2971440" cy="29714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2126520"/>
              <a:ext cx="3047760" cy="21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Answe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assoon Primary"/>
                </a:rPr>
                <a:t>Wheat.</a:t>
              </a:r>
              <a:r>
                <a:rPr b="1" lang="en-US" sz="2000" spc="-1" strike="noStrike">
                  <a:solidFill>
                    <a:srgbClr val="ffffff"/>
                  </a:solidFill>
                  <a:latin typeface="Sassoon Primary"/>
                </a:rPr>
                <a:t>  We eat it in bread, pasta, cereals, cakes, biscuits and it’s added to all sorts of food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iry Product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Main F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219320"/>
            <a:ext cx="73915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Dairy foods are made from milk (usually cow’s milk, but can be from other animals like goats or sheep). Dairy foods give us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protein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fat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.  They are also a good source of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calcium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which is good for bones and tee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se food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heese (hard, soft, cottag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Yogu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Food high in milk or milk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86400" y="3048120"/>
            <a:ext cx="2362320" cy="2612520"/>
            <a:chOff x="5486400" y="3048120"/>
            <a:chExt cx="2362320" cy="2612520"/>
          </a:xfrm>
        </p:grpSpPr>
        <p:sp>
          <p:nvSpPr>
            <p:cNvPr id="162" name=""/>
            <p:cNvSpPr/>
            <p:nvPr/>
          </p:nvSpPr>
          <p:spPr>
            <a:xfrm>
              <a:off x="5486400" y="3048120"/>
              <a:ext cx="2302920" cy="22860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6400" y="3394080"/>
              <a:ext cx="2362320" cy="22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Weird fac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Sassoon Primary"/>
                </a:rPr>
                <a:t>Our brains are 80% fat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at, Fish and Egg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Main F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1219320"/>
            <a:ext cx="73915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main nutrients derived from meat are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protein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, but it also gives us fats and some miner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he meat and fish group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hicken and all poult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Fish and shellfis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Beef, pork and la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ggs are included in this group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Athletes eat lots of protein; they help to build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muscle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867280" y="2209680"/>
            <a:ext cx="3048120" cy="2742840"/>
            <a:chOff x="5867280" y="2209680"/>
            <a:chExt cx="3048120" cy="2742840"/>
          </a:xfrm>
        </p:grpSpPr>
        <p:sp>
          <p:nvSpPr>
            <p:cNvPr id="169" name=""/>
            <p:cNvSpPr/>
            <p:nvPr/>
          </p:nvSpPr>
          <p:spPr>
            <a:xfrm>
              <a:off x="5867280" y="2209680"/>
              <a:ext cx="2971800" cy="274284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7280" y="2625120"/>
              <a:ext cx="3048120" cy="20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Foodie fac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Sassoon Primary"/>
                </a:rPr>
                <a:t>Sushi (raw fish) is now Marks and Spencer’s best-selling lunchtime</a:t>
              </a:r>
              <a:r>
                <a:rPr b="0" lang="en-GB" sz="2000" spc="-1" strike="noStrike">
                  <a:solidFill>
                    <a:srgbClr val="ffffff"/>
                  </a:solidFill>
                  <a:latin typeface="Sassoon Primary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Sassoon Primary"/>
                </a:rPr>
                <a:t>sna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rches, Sugars and Fat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219320"/>
            <a:ext cx="8458200" cy="37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Sometimes foods are classified into starches, sugars and fats.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  Starche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includes foods like potatoes and provide mainly 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carbohydrate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.  Carbohydrates give us the 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energy 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to carry on with our day-to-day l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Foods high in 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sugar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include those naturally occurring as in fruit, and those containing refined/processed sugars such as sweets, chocolates, cakes etc.  We need to limit our intake of 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refined sugars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– these are empty calories which give an immediate ‘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boost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A small amount of </a:t>
            </a:r>
            <a:r>
              <a:rPr b="0" lang="en-GB" sz="2000" spc="-1" strike="noStrike">
                <a:solidFill>
                  <a:srgbClr val="99cc00"/>
                </a:solidFill>
                <a:latin typeface="Arial Black"/>
              </a:rPr>
              <a:t>fat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is important for health, but eating too much fat is unhealthy.  It leads to clogged arteries (restricted blood supply), high cholesterol and becoming overweigh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tamins and Mineral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04920" y="121932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Our bodies need all sorts of chemicals (vitamins and minerals) to be healthy.  The most common a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2057400"/>
          <a:ext cx="4876920" cy="3776760"/>
        </p:xfrm>
        <a:graphic>
          <a:graphicData uri="http://schemas.openxmlformats.org/drawingml/2006/table">
            <a:tbl>
              <a:tblPr/>
              <a:tblGrid>
                <a:gridCol w="1625760"/>
                <a:gridCol w="1625400"/>
                <a:gridCol w="162576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itamin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Helps maintain eyes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Sweet potatoes, carro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itamin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Help body make prote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Green leafy veget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itamin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Healing skin, preventing co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Citrus fruit, tomato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itamin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Strengthen b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Mil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Sunl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itamin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Helps strengthen ce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Vegetable oils, nu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Ir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Healthy bloo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333399"/>
                          </a:solidFill>
                          <a:latin typeface="Arial Black"/>
                        </a:rPr>
                        <a:t>Green leafy veget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ading the Labels on Food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10280" y="4267080"/>
            <a:ext cx="1916280" cy="2286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1219320"/>
            <a:ext cx="56386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Food labelling is confusing.  The front of packaging often tells a different story to th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Products that claim to be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Low in fat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on the front, may be loaded with sugar, and sometimes, products saying things like ‘Less than 5% fat’ have more fat tha similar produc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00080"/>
                </a:solidFill>
                <a:latin typeface="Arial Black"/>
              </a:rPr>
              <a:t>Look at example food lab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19920" y="1219320"/>
            <a:ext cx="2895480" cy="3139560"/>
            <a:chOff x="6019920" y="1219320"/>
            <a:chExt cx="2895480" cy="3139560"/>
          </a:xfrm>
        </p:grpSpPr>
        <p:sp>
          <p:nvSpPr>
            <p:cNvPr id="186" name=""/>
            <p:cNvSpPr/>
            <p:nvPr/>
          </p:nvSpPr>
          <p:spPr>
            <a:xfrm>
              <a:off x="6019920" y="1219320"/>
              <a:ext cx="2822760" cy="313956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19920" y="1694880"/>
              <a:ext cx="289548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Food lab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Sassoon Primary"/>
                </a:rPr>
                <a:t>You cannot trust the front of the pack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Sassoon Primary"/>
                </a:rPr>
                <a:t>you need to read the back</a:t>
              </a:r>
              <a:r>
                <a:rPr b="1" lang="en-GB" sz="1800" spc="-1" strike="noStrike">
                  <a:solidFill>
                    <a:srgbClr val="ffffff"/>
                  </a:solidFill>
                  <a:latin typeface="Sassoon Primary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480" y="1295280"/>
            <a:ext cx="5410440" cy="2743200"/>
          </a:xfrm>
          <a:prstGeom prst="wedgeEllipseCallout">
            <a:avLst>
              <a:gd name="adj1" fmla="val 52902"/>
              <a:gd name="adj2" fmla="val 41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It doesn’t matter what I eat as long as I do lots of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09480" y="1295280"/>
            <a:ext cx="5410440" cy="2743200"/>
          </a:xfrm>
          <a:prstGeom prst="wedgeEllipseCallout">
            <a:avLst>
              <a:gd name="adj1" fmla="val 52902"/>
              <a:gd name="adj2" fmla="val 41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It doesn’t matter what I eat as long as I do lots of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3581280"/>
            <a:ext cx="4495680" cy="2653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ong!  Exercise is good for you, but it still matters what you eat.  Eating the right foods means we can learn better and exercise better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09680" y="2057400"/>
            <a:ext cx="3810240" cy="1981080"/>
          </a:xfrm>
          <a:prstGeom prst="wedgeEllipseCallout">
            <a:avLst>
              <a:gd name="adj1" fmla="val 54125"/>
              <a:gd name="adj2" fmla="val 37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Chocolate is bad for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2" action="ppaction://hlinksldjump"/>
              </a:rPr>
              <a:t>A Healthy Diet and Our Body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3" action="ppaction://hlinksldjump"/>
              </a:rPr>
              <a:t>Healthy Eating Pyramid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4" action="ppaction://hlinksldjump"/>
              </a:rPr>
              <a:t>The Main Food Groups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5" action="ppaction://hlinksldjump"/>
              </a:rPr>
              <a:t>Fruit and Vegetables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6" action="ppaction://hlinksldjump"/>
              </a:rPr>
              <a:t>Grains and Pulses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7" action="ppaction://hlinksldjump"/>
              </a:rPr>
              <a:t>Dairy Products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8" action="ppaction://hlinksldjump"/>
              </a:rPr>
              <a:t>Starches, Sugars and Fats 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9" action="ppaction://hlinksldjump"/>
              </a:rPr>
              <a:t>Vitamins and Minerals 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 Black"/>
                <a:hlinkClick r:id="rId10" action="ppaction://hlinksldjump"/>
              </a:rPr>
              <a:t>Reading the Labels on Foods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Black"/>
                <a:hlinkClick r:id="rId11" action="ppaction://hlinksldjump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 Black"/>
              </a:rPr>
              <a:t>Healthy Eating Myths</a:t>
            </a:r>
            <a:r>
              <a:rPr b="0" lang="en-GB" sz="2000" spc="-1" strike="noStrike">
                <a:solidFill>
                  <a:srgbClr val="333333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 Black"/>
              </a:rPr>
              <a:t>Links for further study</a:t>
            </a:r>
            <a:endParaRPr b="0" lang="en-US" sz="2400" spc="-1" strike="noStrike">
              <a:solidFill>
                <a:srgbClr val="333333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6858000" y="304920"/>
            <a:ext cx="1960560" cy="23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209680" y="2057400"/>
            <a:ext cx="3810240" cy="1981080"/>
          </a:xfrm>
          <a:prstGeom prst="wedgeEllipseCallout">
            <a:avLst>
              <a:gd name="adj1" fmla="val 54125"/>
              <a:gd name="adj2" fmla="val 37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Chocolate is bad for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2120" y="3581280"/>
            <a:ext cx="4495680" cy="2654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’s true that chocolate isn’t the healthiest snack – but it isn’t innately bad either!  So, some chocolate can be part of a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alanc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iet.  Plain (dark) chocolate is better for you thank milk; it is higher in ir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7200" y="1295280"/>
            <a:ext cx="5562720" cy="2743200"/>
          </a:xfrm>
          <a:prstGeom prst="wedgeEllipseCallout">
            <a:avLst>
              <a:gd name="adj1" fmla="val 52824"/>
              <a:gd name="adj2" fmla="val 41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Chewing and digesting a stick of celery uses up more energy than you get from th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Myths 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457200" y="1295280"/>
            <a:ext cx="5562720" cy="2743200"/>
          </a:xfrm>
          <a:prstGeom prst="wedgeEllipseCallout">
            <a:avLst>
              <a:gd name="adj1" fmla="val 52824"/>
              <a:gd name="adj2" fmla="val 41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assoon Primary"/>
              </a:rPr>
              <a:t>Chewing and digesting a stick of celery uses up more energy than you get from the f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3733920"/>
            <a:ext cx="4495680" cy="155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sounds good, but unfortunately it isn’t tr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nks for further stud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219320"/>
            <a:ext cx="8610480" cy="69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bc.co.uk/northernireland/schools/4_11/uptoyo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lifebytes.gov.uk/teachers/lb_teachers-ea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lthy eating and wired for health sites by the government – links to appropriate a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iredforhealth.gov.uk/cat.php?catid=886&amp;docid=72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od Standards Agency, 5 a day the Bash Street Way aimed at 7-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food.gov.uk/interactivetools/educational/bashstreetdi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eatwell.gov.uk/foodlabels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kidshealth.org/kid/stay_healthy/food/vitami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dole5aday.com/MusicAndPlay/M_Games.jsp?topmenu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lash game ‘identify the fruit’, interactive, suitable whiteboard, aimed at year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lllo.org/yeartwo/jan17th/vivian/fruit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7"/>
          <a:stretch/>
        </p:blipFill>
        <p:spPr>
          <a:xfrm>
            <a:off x="6934320" y="4419720"/>
            <a:ext cx="1877760" cy="2239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Healthy Diet and Our Body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6324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If our bodies are human machines </a:t>
            </a:r>
            <a:r>
              <a:rPr b="0" lang="en-US" sz="2000" spc="-1" strike="noStrike">
                <a:solidFill>
                  <a:srgbClr val="99cc00"/>
                </a:solidFill>
                <a:latin typeface="Arial Black"/>
              </a:rPr>
              <a:t>food is our fuel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.   How well we eat, affects how well our bodies work, and how long we live.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It is especially important that we eat heathily as children, as we are still </a:t>
            </a:r>
            <a:r>
              <a:rPr b="0" lang="en-US" sz="2000" spc="-1" strike="noStrike">
                <a:solidFill>
                  <a:srgbClr val="99cc00"/>
                </a:solidFill>
                <a:latin typeface="Arial Black"/>
              </a:rPr>
              <a:t>growing and developing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; a young plant not given proper nutrients grows up to be a poor specimen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. 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A healthy diet is sometimes called a </a:t>
            </a:r>
            <a:r>
              <a:rPr b="0" lang="en-US" sz="2000" spc="-1" strike="noStrike">
                <a:solidFill>
                  <a:srgbClr val="99cc00"/>
                </a:solidFill>
                <a:latin typeface="Arial Black"/>
              </a:rPr>
              <a:t>balanced diet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 as it needs to consist of </a:t>
            </a:r>
            <a:r>
              <a:rPr b="0" i="1" lang="en-US" sz="2000" spc="-1" strike="noStrike">
                <a:solidFill>
                  <a:srgbClr val="333333"/>
                </a:solidFill>
                <a:latin typeface="Arial Black"/>
              </a:rPr>
              <a:t>different </a:t>
            </a: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types of foods.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33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Black"/>
              </a:rPr>
              <a:t>Eating properly and regularly is really important; what we eat and drink now, affects our health in the future.  </a:t>
            </a:r>
            <a:endParaRPr b="0" lang="en-US" sz="2000" spc="-1" strike="noStrike">
              <a:solidFill>
                <a:srgbClr val="333333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60560" cy="2338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172200" y="3048120"/>
            <a:ext cx="2743200" cy="2818800"/>
            <a:chOff x="6172200" y="3048120"/>
            <a:chExt cx="2743200" cy="2818800"/>
          </a:xfrm>
        </p:grpSpPr>
        <p:sp>
          <p:nvSpPr>
            <p:cNvPr id="94" name=""/>
            <p:cNvSpPr/>
            <p:nvPr/>
          </p:nvSpPr>
          <p:spPr>
            <a:xfrm>
              <a:off x="6172200" y="3048120"/>
              <a:ext cx="2674440" cy="28188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72200" y="3475080"/>
              <a:ext cx="2743200" cy="20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ff00"/>
                  </a:solidFill>
                  <a:latin typeface="Tw Cen MT Condensed Extra Bold"/>
                </a:rPr>
                <a:t>Foodie fac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assoon Primary"/>
                </a:rPr>
                <a:t>Children that eat breakfast get better scores in tests than children that don’t</a:t>
              </a:r>
              <a:r>
                <a:rPr b="0" lang="en-US" sz="2000" spc="-1" strike="noStrike">
                  <a:solidFill>
                    <a:srgbClr val="ffffff"/>
                  </a:solidFill>
                  <a:latin typeface="Sassoon Primary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Pyramid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381880" cy="4953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05520" y="47242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Carbohydrates: take most food from this group (rice, pasta, bread, potato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419720" y="5029200"/>
            <a:ext cx="76176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Pyramid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381880" cy="4953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105520" y="47242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bohydrates: take most food from this group (rice, pasta, bread, potato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419720" y="50292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886200" y="4114800"/>
            <a:ext cx="13716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7339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Fruit and vegetables: take 5 portions a day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Pyramid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381880" cy="4953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105520" y="47242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bohydrates: take most food from this group (rice, pasta, bread, potato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419720" y="50292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86200" y="4114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37339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uit and vegetables: take 5 portions a day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27432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Meat, fish and dairy: take something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352680" y="2971800"/>
            <a:ext cx="137160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ealthy Eating Pyramid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1219320"/>
            <a:ext cx="655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8381880" cy="4953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05520" y="472428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bohydrates: take most food from this group (rice, pasta, bread, potato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419720" y="5029200"/>
            <a:ext cx="761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886200" y="4114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373392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uit and vegetables: take 5 portions a day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27432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t, fish and dairy: take something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2971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1660680"/>
            <a:ext cx="340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66ff"/>
                </a:solidFill>
                <a:latin typeface="Arial"/>
              </a:rPr>
              <a:t>Foods high in fats and sugars: take only small amounts from this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895120" y="2133720"/>
            <a:ext cx="1219320" cy="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Main Food Group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33720" y="1600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114800" y="1676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209680" y="3352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191120" y="3352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6705720" y="4952880"/>
            <a:ext cx="2133360" cy="1673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6248520"/>
            <a:ext cx="5943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rId11" action="ppaction://hlinksldjump"/>
          </p:cNvPr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Back to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ruit and Vegetables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238880" y="49528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80880" y="61722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Main Food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371600"/>
            <a:ext cx="480060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Fruits and vegetables grow on plants: underground, on the ground or in tre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very day we should eat at least </a:t>
            </a:r>
            <a:r>
              <a:rPr b="0" lang="en-GB" sz="2800" spc="-1" strike="noStrike">
                <a:solidFill>
                  <a:srgbClr val="99cc00"/>
                </a:solidFill>
                <a:latin typeface="Arial Black"/>
              </a:rPr>
              <a:t>5 portion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of fruit and vegetables.  (A  portion is about a handfu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Fruit and vegetables give us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fibre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 and </a:t>
            </a:r>
            <a:r>
              <a:rPr b="0" lang="en-GB" sz="2400" spc="-1" strike="noStrike">
                <a:solidFill>
                  <a:srgbClr val="99cc00"/>
                </a:solidFill>
                <a:latin typeface="Arial Black"/>
              </a:rPr>
              <a:t>vitamins and minerals</a:t>
            </a: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638680" y="1676520"/>
            <a:ext cx="2743200" cy="2818800"/>
            <a:chOff x="5638680" y="1676520"/>
            <a:chExt cx="2743200" cy="2818800"/>
          </a:xfrm>
        </p:grpSpPr>
        <p:sp>
          <p:nvSpPr>
            <p:cNvPr id="141" name=""/>
            <p:cNvSpPr/>
            <p:nvPr/>
          </p:nvSpPr>
          <p:spPr>
            <a:xfrm>
              <a:off x="5638680" y="1676520"/>
              <a:ext cx="2674440" cy="281880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38680" y="2103480"/>
              <a:ext cx="27432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Gill Sans Ultra Bold"/>
                </a:rPr>
                <a:t>Tak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Gill Sans Ultra Bold"/>
                </a:rPr>
                <a:t>5 a da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Gill Sans Ultra Bold"/>
                </a:rPr>
                <a:t>everyday!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2:24:52Z</dcterms:created>
  <dc:creator>Susan</dc:creator>
  <dc:description/>
  <dc:language>en-US</dc:language>
  <cp:lastModifiedBy>Pitchford</cp:lastModifiedBy>
  <dcterms:modified xsi:type="dcterms:W3CDTF">2006-02-07T10:45:01Z</dcterms:modified>
  <cp:revision>110</cp:revision>
  <dc:subject/>
  <dc:title>Balanced Diet</dc:title>
</cp:coreProperties>
</file>